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png" ContentType="image/png"/>
  <Override PartName="/ppt/media/image6.gif" ContentType="image/gif"/>
  <Override PartName="/ppt/media/image10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91C-3B3C-46C5-857D-9BCB4B44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D83-BDAA-46D7-BE5E-F5A288B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8A71D-94DD-49AC-93A4-8A6F1C6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80E63-542C-40E0-892A-F62F1228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7837A-E633-4150-B837-68DB7A9B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B4757-4DBC-4D16-B0C0-00C85660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E20F6-980C-4F63-B107-6460117D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434C8-2AE1-4CC1-99C4-70FFACC4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F8F32-B464-4D0C-BD70-1073FAB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178FB-ECC4-485E-BAF5-86EF9FFD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ED99F-10B0-450F-9D07-9C039AA1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E44F6-B3EE-4CD8-B8DD-630E2F02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561-6292-419C-8C29-690A9D34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423DA-9621-4DA6-9295-A4DAE56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D303F-A215-4FC9-B158-9AA31D5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759F5-246C-4432-984A-17148A8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8B084-AA6C-46DB-8ACF-9F3AF4A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6B23B-1C76-4B55-937D-2F9503B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03A3D-FFDF-4EFC-837D-BC8FB29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14225-6A61-4301-9A3F-25675793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73DD3-4D50-42C8-8F4B-F67824DC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32022-9033-4C3F-9FDD-79963C0A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56A4-9D84-42C0-9DA5-936F271C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510-E87A-4218-832C-B40EC72B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AE67-B5D5-482F-AA2D-C42E579B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F45AB-F2AD-434E-8B26-88674DF9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FF43B-7EEA-4F93-90A0-2915B06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C9D5-3608-424F-9576-B886108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B0A56-BAA5-462B-A12D-B79232C8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5C99C-5BF0-4F77-A3C5-402FB535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21BE1-1149-4505-A284-4578F783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DA0D-025D-4054-AEB9-DB63ED3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96A6D-EB9B-4752-BD54-1121E18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188BB-FD99-4851-B4CA-F022D86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6A7-DB98-4F62-A246-EB80403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469AA-49CC-4631-9F4F-32AE9635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A9F16-E17B-4B31-80DD-8587E3A6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42B6F-EED4-4118-B288-4F1F4475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85D17-BEB0-4D83-865C-E6F70437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FFF20-8456-4E7A-8DAF-259E4E1E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D6160-E687-4B40-AFCC-4126F3FB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718B2-10C2-41B8-8290-49BF5638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88C40-D50B-4889-A196-5301D2D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4DA12-970D-4F6B-A379-2306ACB2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B021-24D4-4E8E-9391-2D247B6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30B7-BFDC-4A49-8E71-467CEF8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EE291-6364-4339-886F-D9A4E0B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67BDB-62B5-47BA-AB63-3D9B8E6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D13C8-238D-477B-8CEA-F25E0B2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F6149-2598-43A6-869E-FDA8BA5B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30C3A-A506-4D0A-98EE-A59BB357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2FE9-69DE-4125-994E-098F1F80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BF7-99A5-4410-AB60-7C503B06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A628-B8F6-47A8-A874-88C33EE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36E-7E5E-4346-9162-514AAF8A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CB60-50D0-4CFF-8555-B918682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A4F-BEB0-43D8-B583-E919EEC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4AB5-78DE-4D39-8A52-94125C7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A0FB-10B3-45B4-9847-49571BB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CB9E-A3BD-43EF-92F7-284BB03A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2D26-DA23-4928-9EEF-35EC6B5C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933-C65F-455E-8A38-0E438EEC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6494-24AB-4372-8C7F-823586DD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8DF4-DE6E-491C-BC58-0B6DEE36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C2A1-F0D6-4B91-89F9-69014535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4771-3056-4369-9AB1-AD914F8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CED4-7C27-4382-9CF1-A2AD893F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8EA-843A-4A95-86F8-2DB9B774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1615-E988-4677-88DF-9B434223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086A-9C7B-42ED-9FFF-BCB4B24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C152-0DF2-4032-A0A4-AC3A590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BE3C-1A79-4E3B-B2EC-2B51C2F9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30BD-9AEF-4C34-ADE7-05C21BC1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B38E-AB8D-42C7-9184-E5E2BCC7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D3A3-108E-4BF5-ACB9-9AD2633C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679E-58B7-4979-A031-D081F22F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611A-C5A1-4F0E-B1D2-DB3E499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61B2-99B8-45A6-BE75-182C2E1E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2BD-BBF3-48D8-9841-3D69767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9D93A-1B41-4970-8AB6-463337F6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114D-990D-4F54-AABB-B941F58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A6B8-B21F-4204-801D-41E15D0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FF80-6FA5-454F-8B3C-1371B75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412F9-B5E5-4DD8-BF5A-1032002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8BB6-ED0F-49BF-A960-F5D0F298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3DDF0-CDD8-493A-990E-F9AAB84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4E3C-CAE7-4358-B407-56ED3090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D13D-E288-40B6-9FEF-B4385BEE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D022-F736-4AB4-B004-4BAC3980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EE9-108C-48AF-BE08-DF52C122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DD722-CEED-47C6-89FA-3CBA941A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FFDD-7393-4260-8E4C-AF99DE6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BEF5-4AC9-4AAF-A445-975B7630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2F28-4F01-40D5-B38E-78467044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970F-7381-4E8C-9209-694A451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4F01-3227-4AC9-B95A-2B614F5C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0EABE-DD47-4E2B-957C-0F5E54C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EDFA-E44E-4F2A-A1E9-790CD3D3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B3510-3B13-486C-AADE-5D903F8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BED7E-DE06-4F9F-B479-D7045852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4C3-6DEA-4DCD-94CB-582E8E4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9FA4-3CB1-48A7-9603-53FF0411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008C4-CE2F-48B5-9D6F-5A25FCF8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2D9335-4E1A-4191-8645-20288C6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0C109-A3D2-464F-BE39-CB313F0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74219-1132-4D50-A166-346170B9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44C40-6A5F-4D62-9DA3-7EE8EBE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16A57-7166-43E2-97BE-BAC661CF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A2FF3-1257-4FD4-AEC5-03D5D5EE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122BB-F8F5-4EEE-9731-ABE2F5E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285A3-CFE1-48E1-AF89-CB78DDB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B85-F048-4E4C-8378-285DEBF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E908A-76E6-40A4-8AED-6C4710C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444A2-562A-4CE8-B98B-8458F7FC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9DCAC-D5DC-4FB7-99A0-7B12B97A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6FC4-BF43-4D53-B4A0-F06E3677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2262E-36B0-41C2-A940-2B0D4F1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4DCB-760F-4A77-B48D-63CF4794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7649C-E7C7-47EA-8664-899430D5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B66C4-62C4-49F1-900A-150905A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B2A5-EA64-4922-B584-9D31DC7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7B12-48A2-4360-9A31-3428B48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123-9082-4B7C-8EAF-CCA86DD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7BF2A-2A17-44AC-9E4E-29A9157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B71CE-B97B-46AE-9B52-A45BB0E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EBB01-1912-4617-896A-62FD4390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F6D10-BB81-4F57-91B0-EE5EAE0A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B50A6-4DBB-4F32-A9F8-076696A0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EB360-D524-42A0-9E60-693F7E55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91AED-638C-4AD2-A972-4D82F2B5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8E74B-65B0-4B64-880B-2B9ACD11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E3CAA-642E-4D2F-88E7-6CEE577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587E-2F79-4003-98F0-78E9CAB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00A-4BBE-4CF0-A3AE-3D7C57D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E03E7-D183-4224-BC3C-60E7C17B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D08B-E0E1-466D-A558-29A299E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8FBD-A737-4462-89A7-A433341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B9CFC-4D02-4648-AFAB-66BA210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2B0BD-5362-4B1F-B8CD-79E3B20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154F-9A4F-4D15-B116-8547587F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793DE-3C6C-44B7-8862-F96E473F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B4468-E8CF-4489-A3ED-D64A9054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628E6-2790-423C-A618-BD39E499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EAB6C-BABB-4A72-9153-3FF69CE8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D54-830A-4E4D-94CC-4975CB2C093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0A9A-9406-4400-9252-6FCE88E18FF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A3AE-6F62-4724-BCE5-4DA1F75AD7D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7269-E6C7-4678-AEA0-77375ADCD82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909-BA48-4E97-8308-4CD77665C92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DF24-3BC1-429E-AD5B-E30F59C7CAE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2594-8077-45D7-8A21-396FC286F8D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3F90-FBDB-49E0-B9F2-782D577DCF4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125-1CA0-4323-A270-4F1BF9AA7A5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4F1-E928-468C-BD03-F3498D53087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B06-A938-4B2E-9811-9EBAECF6FE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1F78-570F-417B-A396-14F99198555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hapters 7, 8, and 9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onic Bonding, Covalent Bonding, and Nomencl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tall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med when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metal atoms crowd together and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valance shells overla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Georgia"/>
              </a:rPr>
              <a:t>Valance electrons become “delocalized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able to move from one atom to the nex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ke a “sea of electrons” flowing through the positively charged metal 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of Meta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onduct electr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Are malleable and ducti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8000"/>
                </a:solidFill>
                <a:uFillTx/>
                <a:latin typeface="Georgia"/>
              </a:rPr>
              <a:t>Are insolubl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ming Ionic Compounds </a:t>
            </a:r>
            <a:br>
              <a:rPr sz="4000"/>
            </a:b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hapter 9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eorgia"/>
              </a:rPr>
              <a:t>Let’s Recall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Georgia"/>
              </a:rPr>
              <a:t>Charged Particles(Ions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eorgia"/>
              </a:rPr>
              <a:t>Monoatomic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formed from a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single atom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at has gained or lost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eorgia"/>
              </a:rPr>
              <a:t>Polyatomic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formed from a </a:t>
            </a:r>
            <a:r>
              <a:rPr b="0" lang="en-US" sz="2600" spc="-1" strike="noStrike">
                <a:solidFill>
                  <a:srgbClr val="ff0000"/>
                </a:solidFill>
                <a:latin typeface="Georgia"/>
              </a:rPr>
              <a:t>group of atom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at collectively (as a unit) have a char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natomic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ingle atom that has acquired a charge by gaining or losing one or more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ll almost always either be +1, + 2, or +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-1, -2 or -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rely are charges beyond + or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will not be frac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onatomic Ions that are Mutlivalent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ltivalent ions(Transition metal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system to describe the charge since the location on the table doesn’t 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system- whatever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charg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ose elements have is indicated by a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Roman Nume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r example: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ron can form ions with charges of either +2 or +3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 of Multivalent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pper (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Cu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eorgi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pper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C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Georgia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</a:t>
            </a:r>
            <a:r>
              <a:rPr b="0" lang="en-US" sz="2800" spc="-1" strike="noStrike" baseline="30000">
                <a:solidFill>
                  <a:srgbClr val="00ccff"/>
                </a:solidFill>
                <a:latin typeface="Georgia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tin (</a:t>
            </a:r>
            <a:r>
              <a:rPr b="0" lang="en-US" sz="2800" spc="-1" strike="noStrike">
                <a:solidFill>
                  <a:srgbClr val="00ccff"/>
                </a:solidFill>
                <a:latin typeface="Georgia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tin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smuth (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II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Bi</a:t>
            </a:r>
            <a:r>
              <a:rPr b="0" lang="en-US" sz="2800" spc="-1" strike="noStrike" baseline="30000">
                <a:solidFill>
                  <a:srgbClr val="00ff00"/>
                </a:solidFill>
                <a:latin typeface="Georgia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ismuth (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Bi</a:t>
            </a:r>
            <a:r>
              <a:rPr b="0" lang="en-US" sz="2800" spc="-1" strike="noStrike" baseline="30000">
                <a:solidFill>
                  <a:srgbClr val="ff0000"/>
                </a:solidFill>
                <a:latin typeface="Georgia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rmanium (</a:t>
            </a:r>
            <a:r>
              <a:rPr b="0" lang="en-US" sz="2800" spc="-1" strike="noStrike">
                <a:solidFill>
                  <a:srgbClr val="00ccff"/>
                </a:solidFill>
                <a:latin typeface="Georgia"/>
              </a:rPr>
              <a:t>IV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= Ge</a:t>
            </a:r>
            <a:r>
              <a:rPr b="0" lang="en-US" sz="2800" spc="-1" strike="noStrike" baseline="30000">
                <a:solidFill>
                  <a:srgbClr val="00ccff"/>
                </a:solidFill>
                <a:latin typeface="Georgia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</a:t>
            </a:r>
            <a:r>
              <a:rPr b="0" lang="en-US" sz="2800" spc="-1" strike="noStrike" baseline="30000">
                <a:solidFill>
                  <a:srgbClr val="ffff00"/>
                </a:solidFill>
                <a:latin typeface="Georgia"/>
              </a:rPr>
              <a:t>+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chromium (</a:t>
            </a: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VI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A couple of exceptions 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multivalent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Silv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no Roman Numeral: Always 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+1</a:t>
            </a:r>
            <a:r>
              <a:rPr b="0" lang="en-US" sz="28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Zinc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Scandi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00ff00"/>
                </a:solidFill>
                <a:latin typeface="Georgia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afbd"/>
                </a:solidFill>
                <a:latin typeface="Georgia"/>
              </a:rPr>
              <a:t>Cadmi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no Roman Numeral: Always </a:t>
            </a:r>
            <a:r>
              <a:rPr b="0" lang="en-US" sz="2800" spc="-1" strike="noStrike">
                <a:solidFill>
                  <a:srgbClr val="67afbd"/>
                </a:solidFill>
                <a:latin typeface="Georgia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ming Monatomic 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+ Io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just the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name of the element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sodium, potassium, aluminu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- ion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stem of the element with an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“ide” ending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chloride, oxide, sulfide, nitrid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man Numeral is the </a:t>
            </a:r>
            <a:r>
              <a:rPr b="0" lang="en-US" sz="2800" spc="-1" strike="noStrike">
                <a:solidFill>
                  <a:srgbClr val="ff00ff"/>
                </a:solidFill>
                <a:latin typeface="Georgia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Georgia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ron (II), gold (III), lead (IV) = “iron two”, “gold three” and “lead four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Type 1 - metal and nonmetal (ionic compounds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ation is named first and anion named sec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97960" indent="-2239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sodium chloride (NaCl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calcium sulfide    (Ca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nit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magnesium iod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chlo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sodium phosph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597960" indent="-223920">
              <a:lnSpc>
                <a:spcPct val="5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aluminum ox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1920" indent="-2325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4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Type 1 - metal and nonmetal (ionic compounds)</a:t>
            </a:r>
            <a:br>
              <a:rPr sz="2400"/>
            </a:b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Writing formulas 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rebuchet MS"/>
              </a:rPr>
              <a:t>BINARY COMPOUNDS: (2 elements)</a:t>
            </a:r>
            <a:r>
              <a:rPr b="1" lang="en-US" sz="28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Type 2 – contain a multivalent cation (ionic compounds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These compounds include a multivalent cation, so we must identify the charge on the cation in the name of the comp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copper (II) chlor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mercury (II) oxi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ff"/>
                </a:solidFill>
                <a:latin typeface="Georgia"/>
              </a:rPr>
              <a:t>lead (IV) oxid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hemical Bonds!!!!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e force holding atoms together in a compound or molecu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rebuchet MS"/>
              </a:rPr>
              <a:t>TERNARY COMPOU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cc00"/>
                </a:solidFill>
                <a:latin typeface="Georgia"/>
              </a:rPr>
              <a:t>Contain 3 types of elements, usually an oxygen (ionic compounds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“</a:t>
            </a:r>
            <a:r>
              <a:rPr b="1" lang="en-US" sz="2600" spc="-1" strike="noStrike">
                <a:solidFill>
                  <a:srgbClr val="ff0000"/>
                </a:solidFill>
                <a:latin typeface="Georgia"/>
              </a:rPr>
              <a:t>polyatomic ions”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sodium nit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iron (III) sulf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cesium perchlor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ammonium phosphat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ff"/>
                </a:solidFill>
                <a:latin typeface="Georgia"/>
              </a:rPr>
              <a:t>calcium hydroxide 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rebuchet MS"/>
              </a:rPr>
              <a:t>Comparing Anions with Oxygen Atoms</a:t>
            </a:r>
            <a:br>
              <a:rPr sz="1400"/>
            </a:b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(Ionic Compounds)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457200" y="1066680"/>
          <a:ext cx="8458200" cy="569448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6532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Number of Oxygen At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205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ne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d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471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o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les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po . . . i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960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les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1667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rt: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3 oxygen atoms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47160"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lor</a:t>
                      </a:r>
                      <a:r>
                        <a:rPr b="1" lang="en-US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more: “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 . . . ate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8280"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86760" rIns="86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ing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2a87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lecule – 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c2a874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s are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_____________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both a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53548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 pairs form a bon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601"/>
              </a:spcBef>
              <a:buClr>
                <a:srgbClr val="53548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th atoms achieve an ____________________in their outermost orbit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4308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4" name="Picture 6" descr="covalent bonds blue"/>
          <p:cNvPicPr/>
          <p:nvPr/>
        </p:nvPicPr>
        <p:blipFill>
          <a:blip r:embed="rId1"/>
          <a:stretch/>
        </p:blipFill>
        <p:spPr>
          <a:xfrm>
            <a:off x="3429000" y="5113440"/>
            <a:ext cx="20811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0880" y="1905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bonds generally </a:t>
            </a: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form between atoms of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are formed by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</a:t>
            </a:r>
            <a:r>
              <a:rPr b="1" lang="en-US" sz="2600" spc="-1" strike="noStrike" u="sng">
                <a:solidFill>
                  <a:srgbClr val="00cc00"/>
                </a:solidFill>
                <a:uFillTx/>
                <a:latin typeface="Georgia"/>
              </a:rPr>
              <a:t>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________________________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solu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Georgia"/>
              </a:rPr>
              <a:t>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two or more atoms bond covalently, they are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Georgia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Ionic Compound vs. Covalent Compound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698" name="Picture 4" descr="004"/>
          <p:cNvPicPr/>
          <p:nvPr/>
        </p:nvPicPr>
        <p:blipFill>
          <a:blip r:embed="rId1"/>
          <a:stretch/>
        </p:blipFill>
        <p:spPr>
          <a:xfrm>
            <a:off x="1998720" y="2249640"/>
            <a:ext cx="51465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valent Bonds (2 types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o types of covalent bonding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02652"/>
                </a:solidFill>
                <a:latin typeface="Georgia"/>
              </a:rPr>
              <a:t>__________________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– the electron pair is ________________to one atom than the oth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1217520" indent="-4953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ments_____________________________________________________________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952560" indent="-49536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– the electron pair is shared “______________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3" marL="1474920" indent="-4953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stly  electronegativity is equal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33520" indent="-533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 –Bone Bonds  Covale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Georgia"/>
              </a:rPr>
              <a:t>Polar coval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Unevenly matched but willing to shar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nger dog gets a larger portion of the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ment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99160" indent="-209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3" name="Picture 5" descr="Polar Covalent Animation"/>
          <p:cNvPicPr/>
          <p:nvPr/>
        </p:nvPicPr>
        <p:blipFill>
          <a:blip r:embed="rId1"/>
          <a:stretch/>
        </p:blipFill>
        <p:spPr>
          <a:xfrm>
            <a:off x="2362320" y="2209680"/>
            <a:ext cx="43434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-Bone Bonds Coval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8088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Georgia"/>
              </a:rPr>
              <a:t>Nonpolar covalent</a:t>
            </a:r>
            <a:r>
              <a:rPr b="0" lang="en-US" sz="28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Dogs of equal streng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dogs have equal attraction for the bo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ments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8360" indent="-201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5" descr="Covalent Bonding animation"/>
          <p:cNvPicPr/>
          <p:nvPr/>
        </p:nvPicPr>
        <p:blipFill>
          <a:blip r:embed="rId1"/>
          <a:stretch/>
        </p:blipFill>
        <p:spPr>
          <a:xfrm>
            <a:off x="2057400" y="2286000"/>
            <a:ext cx="4343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or COVALENT BOND?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w can we determine which type of bond will form between atoms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y the_______________ of each ato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or COVALENT???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8088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can we tell what type of bond will form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5400" indent="-204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t depends on the </a:t>
            </a:r>
            <a:r>
              <a:rPr b="0" lang="en-US" sz="2200" spc="-1" strike="noStrike">
                <a:solidFill>
                  <a:srgbClr val="0000ff"/>
                </a:solidFill>
                <a:latin typeface="Georgia"/>
              </a:rPr>
              <a:t>electronegativity </a:t>
            </a: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values of the two atoms sharing the bon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egativity – 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02760" indent="-212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1" name="Picture 4" descr="fig08_03"/>
          <p:cNvPicPr/>
          <p:nvPr/>
        </p:nvPicPr>
        <p:blipFill>
          <a:blip r:embed="rId1"/>
          <a:stretch/>
        </p:blipFill>
        <p:spPr>
          <a:xfrm>
            <a:off x="762120" y="2819520"/>
            <a:ext cx="78483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Bond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onic Bo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valent Bond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lar Coval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polar Covalent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llic Bond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Determine Bond Typ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tract the electronegativity values of the 2 ato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086"/>
                </a:solidFill>
                <a:latin typeface="Georgia"/>
              </a:rPr>
              <a:t>IONIC B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38086"/>
                </a:solidFill>
                <a:latin typeface="Georgia"/>
              </a:rPr>
              <a:t>__________________________________________________________________________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COVALENT B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_____________________________________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types of covalent: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Georgia"/>
              </a:rPr>
              <a:t>Nonpolar covalent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difference = ___________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Polar covalent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difference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___________ )</a:t>
            </a:r>
            <a:endParaRPr b="0" lang="en-US" sz="2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ar covalent b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____________________________________________________________________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+ 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xample:  H – C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Nonpolar covalent b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atoms have __________________on the electron pair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egativity difference =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0.0 – 0.4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-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OLARITY (an explanation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* Rememb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--Polar Coval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 bond formed by an unequal sharing of a pair of electr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ctet Rul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oms tend to gain or lose as many valence electrons as they “need” in  order to obtain an electron configuration that is the same as a noble g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3" descr="2410_chemistry_cartoon.gif"/>
          <p:cNvPicPr/>
          <p:nvPr/>
        </p:nvPicPr>
        <p:blipFill>
          <a:blip r:embed="rId1"/>
          <a:stretch/>
        </p:blipFill>
        <p:spPr>
          <a:xfrm>
            <a:off x="2362320" y="3629160"/>
            <a:ext cx="24494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s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tions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toms who lose electrons  (metal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 char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s: sodium, ir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ions 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toms who gain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gative charg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amples: chlorine, nitroge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Dog - Bone Bonds: Ionic bonds</a:t>
            </a:r>
            <a:br>
              <a:rPr sz="2800"/>
            </a:br>
            <a:r>
              <a:rPr b="0" lang="en-US" sz="1400" spc="-1" strike="noStrike">
                <a:solidFill>
                  <a:srgbClr val="424456"/>
                </a:solidFill>
                <a:latin typeface="Trebuchet MS"/>
              </a:rPr>
              <a:t>[http--ithacasciencezone_com-chemzone-lessons-03bonding-dogcovnt_gif.htm]</a:t>
            </a:r>
            <a:endParaRPr b="0" lang="en-US" sz="1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Ionic bond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One big greedy thief dog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g that gets bone – neg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g that loses bone – positiv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9" name="Picture 5" descr="ionic bonding animation"/>
          <p:cNvPicPr/>
          <p:nvPr/>
        </p:nvPicPr>
        <p:blipFill>
          <a:blip r:embed="rId1"/>
          <a:stretch/>
        </p:blipFill>
        <p:spPr>
          <a:xfrm>
            <a:off x="1752480" y="281952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Bonds (also known as salts)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s are transferr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tions give up electrons, anions take electr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atoms achieve an octet in their valence (outermost) shel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attractive forces(electrostatic) bring the cation and anion together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662" name="Picture 9" descr="ionic bonding"/>
          <p:cNvPicPr/>
          <p:nvPr/>
        </p:nvPicPr>
        <p:blipFill>
          <a:blip r:embed="rId1"/>
          <a:stretch/>
        </p:blipFill>
        <p:spPr>
          <a:xfrm rot="10800000">
            <a:off x="3276720" y="487656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on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Form between atoms of </a:t>
            </a:r>
            <a:r>
              <a:rPr b="1" lang="en-US" sz="2800" spc="-1" strike="noStrike" u="sng">
                <a:solidFill>
                  <a:srgbClr val="438086"/>
                </a:solidFill>
                <a:uFillTx/>
                <a:latin typeface="Georgia"/>
              </a:rPr>
              <a:t>metallic and nonmetallic</a:t>
            </a:r>
            <a:r>
              <a:rPr b="1" lang="en-US" sz="2800" spc="-1" strike="noStrike">
                <a:solidFill>
                  <a:srgbClr val="438086"/>
                </a:solidFill>
                <a:latin typeface="Georgia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A transfer of electr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esults in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positive &amp; negative io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at ar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Georgia"/>
              </a:rPr>
              <a:t>attracted to each othe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of Ionic Compou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 u="sng">
                <a:solidFill>
                  <a:srgbClr val="00cc00"/>
                </a:solidFill>
                <a:uFillTx/>
                <a:latin typeface="Georgia"/>
              </a:rPr>
              <a:t>Soluble in wat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00cc"/>
                </a:solidFill>
                <a:uFillTx/>
                <a:latin typeface="Georgia"/>
              </a:rPr>
              <a:t>Conduct electric curren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in the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molten state</a:t>
            </a: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(melted)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s well as in</a:t>
            </a:r>
            <a:r>
              <a:rPr b="0" lang="en-US" sz="2600" spc="-1" strike="noStrike">
                <a:solidFill>
                  <a:srgbClr val="6600cc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6600cc"/>
                </a:solidFill>
                <a:latin typeface="Georgia"/>
              </a:rPr>
              <a:t>solution (electrolyte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ve 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Georgia"/>
              </a:rPr>
              <a:t>high melting point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(need to break crystalline structur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og - Bone Bonds: Metallic bon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Metallic bonds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llow dogs with plenty of bones to go a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ectrons move through the substance with little restri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7" name="Picture 5" descr="metallic bonds animation"/>
          <p:cNvPicPr/>
          <p:nvPr/>
        </p:nvPicPr>
        <p:blipFill>
          <a:blip r:embed="rId1"/>
          <a:stretch/>
        </p:blipFill>
        <p:spPr>
          <a:xfrm>
            <a:off x="2743200" y="3078000"/>
            <a:ext cx="394344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3:41:27Z</dcterms:created>
  <dc:creator>asalla</dc:creator>
  <dc:description/>
  <dc:language>en-US</dc:language>
  <cp:lastModifiedBy>asalla</cp:lastModifiedBy>
  <dcterms:modified xsi:type="dcterms:W3CDTF">2010-03-15T12:22:37Z</dcterms:modified>
  <cp:revision>16</cp:revision>
  <dc:subject/>
  <dc:title>Chapters 7, 8, and 9  Ionic Bonding, Covalent Bonding, and Nomenclature</dc:title>
</cp:coreProperties>
</file>